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55A-7BDE-49A6-9744-9CD90786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FE1-399A-4702-9CB3-AD930183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B42-6D25-4C5F-9406-4B60D6D6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842-DBB1-42C8-924F-40C0718E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32A0-6EF8-4261-B5DB-190B427B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2353-AEAC-4D59-9F45-966A1E74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D71E-1A25-4F8C-8AE0-2DD6EE6F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E0E0-1883-4B73-A401-C1072858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1F5A-F9F6-4599-B3CD-98CC0FA1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E6CB-6E07-4C84-888F-BA079F5A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B6C9-692F-4362-9EFC-DD9C991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1D4-7129-4B7B-AB4B-42CEFE67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0CDD-8EDB-49FB-81D3-88FD6F5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CBA2-9F04-4420-B6FE-474C8F03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2996-BBD5-4A61-9161-296B6545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C975-85F8-4E6D-BEFF-58ACCE17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7240-45D5-411E-899B-D80F369E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64CD-4CBC-4A7C-9951-F444BA81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C3E94-27EA-41FA-9871-001B0899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CDBB7-C0B1-4868-84D9-82783207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84A7B-1FBB-4868-8B41-916C00AD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DAF1-78CF-493C-AC21-D5A05517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D11-44CB-4F31-8C03-48071877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7EAC-FA27-4A7B-BCFE-CF574DE9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DE222-24D1-4C54-81B6-FF4253BA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1013-81FE-47C3-9B45-8740F05B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5577-B93A-4B22-A1EB-10FCFF18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DE4D9-841B-45DB-AECC-CEE7D0AC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8ACF8-7C30-46E0-B17F-B9CD7340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6E2D-DEF1-4319-9EFB-1CFFD6AE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347-C792-44B2-9E14-17E0EE9F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E5A-960D-4825-9D9F-3E6D903C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48F-8D40-4D89-AC29-E8441D9A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15E-9027-4D82-BEB6-CA1CF2A6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729-F675-40A5-A015-A1C165F4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AAC-DFB5-41C2-8011-9C1351C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330D-2ECA-4811-874A-72A2667508B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8DF0-C9B1-47AC-B668-A1E1010B8E8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899E-BE9B-49DB-B0B5-05688B061D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51920" y="1767960"/>
            <a:ext cx="899172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dbbd71"/>
                </a:solidFill>
                <a:latin typeface="Arial"/>
              </a:rPr>
              <a:t>ELEKTRODIJAGNOSTIK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bbd71"/>
                </a:solidFill>
                <a:latin typeface="Swiss"/>
              </a:rPr>
              <a:t>Elektrodegenerativna reakcija (EDR)</a:t>
            </a:r>
            <a:endParaRPr b="0" lang="en-US" sz="3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1849. D. de Boulogne ukazao na mog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sti razlikovanja centralnih od perifernih oduzetosti od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im 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1868.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rb j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opisao elektrodegenerativne reak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laz ispoljene EDR ukazuje da je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 lokalizovano na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PMN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, na samom nervnom stablu, na njegovim korenovima ili motorni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ijama prednjih rogova. Prognoza je l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ja kod lezij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ija prednjih rogova ili korenova, a bolja kod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na samom nervnom stablu. EDR se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ne javlj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od lokalizacija na CMN, korteksu, kortikospinalnim putevima ili samim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Swiss"/>
              </a:rPr>
              <a:t>S</a:t>
            </a:r>
            <a:r>
              <a:rPr b="0" lang="en-US" sz="4400" spc="-1" strike="noStrike">
                <a:solidFill>
                  <a:srgbClr val="dbbd71"/>
                </a:solidFill>
                <a:latin typeface="Swiss"/>
              </a:rPr>
              <a:t>tadijum</a:t>
            </a:r>
            <a:r>
              <a:rPr b="0" lang="sr-Latn-CS" sz="4400" spc="-1" strike="noStrike">
                <a:solidFill>
                  <a:srgbClr val="dbbd71"/>
                </a:solidFill>
                <a:latin typeface="Swiss"/>
              </a:rPr>
              <a:t>i</a:t>
            </a:r>
            <a:r>
              <a:rPr b="0" lang="en-US" sz="4400" spc="-1" strike="noStrike">
                <a:solidFill>
                  <a:srgbClr val="dbbd71"/>
                </a:solidFill>
                <a:latin typeface="Swiss"/>
              </a:rPr>
              <a:t> EDR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aki oblik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b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eli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c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otpu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d)   apsolut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sl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ju jasnog nalaza nisu neophodna druga ispitivanja. Kada se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m ED dobije negativan nalaz, uz nepodudarnost s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im stanjem, umesno je odrediti i hronaksiju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461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2280" y="1981080"/>
          <a:ext cx="7386840" cy="3811680"/>
        </p:xfrm>
        <a:graphic>
          <a:graphicData uri="http://schemas.openxmlformats.org/drawingml/2006/table">
            <a:tbl>
              <a:tblPr/>
              <a:tblGrid>
                <a:gridCol w="1833840"/>
                <a:gridCol w="1831680"/>
                <a:gridCol w="1851120"/>
                <a:gridCol w="1870200"/>
              </a:tblGrid>
              <a:tr h="95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4 NEDELJ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85800" y="2443320"/>
          <a:ext cx="7772400" cy="370332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46160"/>
                <a:gridCol w="1968480"/>
              </a:tblGrid>
              <a:tr h="97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6-8 NEDEL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Swiss"/>
              </a:rPr>
              <a:t>Elektromiografij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369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ektromiografija (EMG) je elektrofiziol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a metoda ispitivanj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AP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 vlakana motornih jedin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369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Swiss"/>
              </a:rPr>
              <a:t>Motorna jedinic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je osnovna anatomsko-fiziol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a jedinica neuromuskularnog aparata. Nju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ni jedan motoneuron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vlakna koja on inerv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. Broj vlakana koja ulaze u sastav jedne motorne jedinic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j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razl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t i zavisi od funkcije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.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vlakna jedne motorne jedinice nisu grupisan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v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su razbacana na prostoru od 1 do 12 mm.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sto se prepl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369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MG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- </a:t>
            </a:r>
            <a:r>
              <a:rPr b="0" lang="en-US" sz="3200" spc="-1" strike="noStrike">
                <a:solidFill>
                  <a:srgbClr val="00cc00"/>
                </a:solidFill>
                <a:latin typeface="Swiss"/>
              </a:rPr>
              <a:t>detekcion</a:t>
            </a:r>
            <a:r>
              <a:rPr b="0" lang="sr-Latn-CS" sz="3200" spc="-1" strike="noStrike">
                <a:solidFill>
                  <a:srgbClr val="00cc00"/>
                </a:solidFill>
                <a:latin typeface="Swiss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se izvodi koaksijalnom iglenom elektrodo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1929. god Bronk i Adrijan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Dutch"/>
              </a:rPr>
              <a:t>Normalni EMG i motorna jedinic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619440" cy="4114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4000680" y="1981080"/>
            <a:ext cx="361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tanja 4"/>
          <p:cNvPicPr/>
          <p:nvPr/>
        </p:nvPicPr>
        <p:blipFill>
          <a:blip r:embed="rId1"/>
          <a:stretch/>
        </p:blipFill>
        <p:spPr>
          <a:xfrm>
            <a:off x="1523880" y="201600"/>
            <a:ext cx="6629400" cy="2946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tanja 5"/>
          <p:cNvPicPr/>
          <p:nvPr/>
        </p:nvPicPr>
        <p:blipFill>
          <a:blip r:embed="rId2"/>
          <a:stretch/>
        </p:blipFill>
        <p:spPr>
          <a:xfrm>
            <a:off x="2057400" y="3317760"/>
            <a:ext cx="6019920" cy="32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Šema aparata za EM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iš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edpojača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jačalo-Trioda  &gt;oscilosk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&gt;zvuč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&gt;kam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Normalni elektromiogra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Swiss"/>
              </a:rPr>
              <a:t>Inserciona aktivnost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zdravog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traje 10 - 30 ms i nastaje  meha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im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nad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j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em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a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pri samom uv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u elektrode. 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estaj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čim prestane uvođenje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g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 toku </a:t>
            </a:r>
            <a:r>
              <a:rPr b="1" lang="en-US" sz="2800" spc="-1" strike="noStrike">
                <a:solidFill>
                  <a:srgbClr val="99cc00"/>
                </a:solidFill>
                <a:latin typeface="Swiss"/>
              </a:rPr>
              <a:t>relaksacije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vlada elektr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 m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Pri </a:t>
            </a:r>
            <a:r>
              <a:rPr b="1" lang="en-US" sz="2800" spc="-1" strike="noStrike">
                <a:solidFill>
                  <a:srgbClr val="99cc00"/>
                </a:solidFill>
                <a:latin typeface="Swiss"/>
              </a:rPr>
              <a:t>minimalnoj voljnoj kontrakcij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zahteva se od pacijenta da sam pok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da kontrahuje ispitani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, a ispitiv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za to vreme uvodi elektrodu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to je mog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bl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motornoj jedinici.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ekranu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se javljaju AP (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analiziramo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oblik, amplitudu i trajanj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 Kod normalnog EMG najv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ima bi i trofaz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A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(80%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Pri </a:t>
            </a:r>
            <a:r>
              <a:rPr b="1" lang="en-US" sz="2800" spc="-1" strike="noStrike">
                <a:solidFill>
                  <a:srgbClr val="99cc00"/>
                </a:solidFill>
                <a:latin typeface="Swiss"/>
              </a:rPr>
              <a:t>srednje jakoj kontrakcij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posmatra se broj aktiviranih motornih jedinica u por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u sa snagom kontrakci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i </a:t>
            </a:r>
            <a:r>
              <a:rPr b="0" lang="en-US" sz="2800" spc="-1" strike="noStrike">
                <a:solidFill>
                  <a:srgbClr val="99cc00"/>
                </a:solidFill>
                <a:latin typeface="Swiss"/>
              </a:rPr>
              <a:t>maksimalnoj voljnoj kontrakcij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- pacijent maksimalno kontrahuje ispitivani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, nasuprot otpora koji daje ispitiv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  Osciloskop je prekriven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AP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otornih jedi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Akcioni potencijal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P predstavlja povećanje propustljivosti za Na+ (uticaj ACH;pasivni i aktivni kanal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-trajanje 5-10 (3-6) 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-amplituda 0.2-2 m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-frekvencija 2-12/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blici potencijala: monofaz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ifaz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trofaz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olifazni (do 3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299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Swiss"/>
              </a:rPr>
              <a:t>ELEKTRODIJAGNOSTIKA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Klasi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na elektrodijagnosti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Hronaksimetr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Kriva intenzitet-vre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Detekciona EM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Stimulaciona EM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SSE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tološki EM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Patolo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ke elektromiografske promene nastaju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: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pri o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enju perifernog motornog neurona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 (</a:t>
            </a:r>
            <a:r>
              <a:rPr b="0" lang="sr-Latn-CS" sz="3400" spc="-1" strike="noStrike">
                <a:solidFill>
                  <a:srgbClr val="00cc00"/>
                </a:solidFill>
                <a:latin typeface="Swiss"/>
              </a:rPr>
              <a:t>neurogeni sindrom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)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kod primarnih mi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nih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oboljenja– miopatija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(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400" spc="-1" strike="noStrike">
                <a:solidFill>
                  <a:srgbClr val="00cc00"/>
                </a:solidFill>
                <a:latin typeface="Swiss"/>
              </a:rPr>
              <a:t>miogeni sindrom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)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Dutch"/>
              </a:rPr>
              <a:t>Denervacija na EM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619440" cy="4114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solidFill>
            <a:srgbClr val="f8a5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utch"/>
              </a:rPr>
              <a:t>Hroni~na parcijalna denerv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bbd71"/>
                </a:solidFill>
                <a:latin typeface="Arial"/>
              </a:rPr>
              <a:t>Denervaciono fibrilacioni potencijali (DFP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karakteristični za kompletnu ED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bifazni; ”ljuska jajet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mogući kod parcijalne EDR, nekih miopatija, zdravo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nestaju umernim sniženjem 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bbd71"/>
                </a:solidFill>
                <a:latin typeface="Arial"/>
              </a:rPr>
              <a:t>Spori denervacioni potencijali (SDP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nikad ih nema kod zdravo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karakteristični su za kompletnu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mogući su kod parcijalne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ređi kod miozitisa i mioton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Fascikulaci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spontane kontrakcije grupe mišićnih vlak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okom vidlj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na njih nije moguće utic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benigne: pušači, neurotiča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aligne: siringomijelija, polio, oštećenja prednjih rogova k.mož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Swiss"/>
              </a:rPr>
              <a:t>Patolo</a:t>
            </a:r>
            <a:r>
              <a:rPr b="1" lang="sr-Latn-CS" sz="4000" spc="-1" strike="noStrike">
                <a:solidFill>
                  <a:srgbClr val="dbbd71"/>
                </a:solidFill>
                <a:latin typeface="Swiss"/>
              </a:rPr>
              <a:t>š</a:t>
            </a:r>
            <a:r>
              <a:rPr b="1" lang="en-US" sz="4000" spc="-1" strike="noStrike">
                <a:solidFill>
                  <a:srgbClr val="dbbd71"/>
                </a:solidFill>
                <a:latin typeface="Swiss"/>
              </a:rPr>
              <a:t>ki</a:t>
            </a:r>
            <a:r>
              <a:rPr b="1" lang="sr-Latn-CS" sz="4000" spc="-1" strike="noStrike">
                <a:solidFill>
                  <a:srgbClr val="dbbd71"/>
                </a:solidFill>
                <a:latin typeface="Swiss"/>
              </a:rPr>
              <a:t> EMG kod neurogenog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ri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PMN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 ukazuje na postojanje Waller-ove degeneracije akso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</a:t>
            </a:r>
            <a:r>
              <a:rPr b="0" lang="en-US" sz="3200" spc="-1" strike="noStrike">
                <a:solidFill>
                  <a:srgbClr val="00cc00"/>
                </a:solidFill>
                <a:latin typeface="Swiss"/>
              </a:rPr>
              <a:t>insercionoj aktivnosti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registruju se dvofazni potencijali niskih amplituda (50 do 200 mikro V) kratkog trajanja (0,5 do 2,5 ms).Pored fibrilacija registruju se i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ri talasi pozitivne denervacije.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DFP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se registruju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o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edelje posle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PMN,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d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n. facialis-a mogu posl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397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</a:t>
            </a:r>
            <a:r>
              <a:rPr b="0" lang="en-US" sz="3200" spc="-1" strike="noStrike">
                <a:solidFill>
                  <a:srgbClr val="00cc00"/>
                </a:solidFill>
                <a:latin typeface="Swiss"/>
              </a:rPr>
              <a:t>fazi relaksacij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mogu se registrovati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DFP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(znak 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g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i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fascikulacij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397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ri </a:t>
            </a:r>
            <a:r>
              <a:rPr b="0" lang="sr-Latn-CS" sz="3200" spc="-1" strike="noStrike">
                <a:solidFill>
                  <a:srgbClr val="00cc00"/>
                </a:solidFill>
                <a:latin typeface="Swiss"/>
              </a:rPr>
              <a:t>mišićnoj kontrakcij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interferentni uzorak je razređen u skladu sa stepenom denervacije.Kod svežih lezija preostali AP imaju  normalne parametre.Kod starijih lezija javljaju se polifazni AP visokih amplituda i produženog traj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Reinervaci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Swiss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lateralna reinervacija nastaje uporedo sa degeneracijom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ih aks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* O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vani aksoni preuzimaju funkciju denervisanih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 vlakana, pov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vaju teritoriju svojih motornih jedinica (makromotorne jedinic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ri potpunoj denervaciji aksona ne registruju s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AP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MG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se m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registrovati pobolj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nje  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PRE POJAVE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 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VOLJNOG POKRET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, tj. m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se utvrditi aksonska reinervacija registrovanjem polifaznih potencijala niskih amplituda i kratkog trajanja (nascentni potencijali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arakterist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n za primarna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oboljenja - miopati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83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* U 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insercionoj aktivnost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nema nikakvih patol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ih prom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* U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toku 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faze relaksacije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 kod nekih oboljenja (progresivna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distrofija i polimiozitis) mogu se registrovati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FD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* 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i 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minimalnoj i umerenoj  kontrakcij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registruju se kratkotrajni polifazni potencijali niskih amplituda i lako prod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og trajanja. Ova pojava se obj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java smanjenjem debljine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h vlakana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vremenske disperzije u prov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u i gubitka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h vlak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* Pri 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maksimalnoj mi</a:t>
            </a:r>
            <a:r>
              <a:rPr b="0" lang="sr-Latn-CS" sz="2800" spc="-1" strike="noStrike">
                <a:solidFill>
                  <a:srgbClr val="00cc00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00cc00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noj kontrakcij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registruje se pun interferentni uzorak jer je broj motornih jedinica 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v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bbd71"/>
                </a:solidFill>
                <a:latin typeface="Arial"/>
              </a:rPr>
              <a:t>Patološki EMG kod miogenog S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Odgovori koje daje EM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a li je mišić patološki promenjen ili 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a li je promena neurogena ili miogen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ko je neurogena da li je lezija spinalna ili na nivou PM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a li je promena na jednom ili više mišić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a li je denervacija kompletna ili parcijal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a li je proces aktivan ili stacioniran? progresivan ili spor? sa reinervacinim elementima ili 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Stimulaciona elektromiografija</a:t>
            </a:r>
            <a:r>
              <a:rPr b="1" lang="sr-Latn-CS" sz="4400" spc="-1" strike="noStrike">
                <a:solidFill>
                  <a:srgbClr val="dbbd71"/>
                </a:solidFill>
                <a:latin typeface="Swiss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MN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 detekcijom iglenom ili perkutanom elektrodom registruje se u odgovaraj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m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i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ma evocirani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AP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(M-talas) ili direktan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 odgov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motornim t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ama nerva pravouglim impulsima supramaksimalne j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ne i kratkog trajanja (0,1 do 1 ms). Supramaksimalna j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na je potrebna da bi se postigla depolarizacija svih aksona i aktivirale sve motorne jedinice. Kratko trajanje impulsa je potrebno da bi se  aktivirao samo ispitivani ner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4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Hronaksimetri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ko je nalaz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e ED negativan, a ne odgovar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j slic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spituje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vremensk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arakteristik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Hronaksija j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najk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vrem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otrebno 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mpuls G intenziteta ravnom dvostrukom pragu izaz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ov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minimaln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okom vidljiv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ontrakcij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Prema Bourguignon-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hronaksija može bi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ratka: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06 - 0,14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srednj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16 - 0,34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ug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40 - 0,70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novijoj literaturi do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1 m</a:t>
            </a:r>
            <a:r>
              <a:rPr b="1" lang="sr-Latn-CS" sz="3200" spc="-1" strike="noStrike">
                <a:solidFill>
                  <a:srgbClr val="a50021"/>
                </a:solidFill>
                <a:latin typeface="Swiss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Hronaksija nerv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u normalnim uslovima je ista - 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izohroniza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Stimulaciona elektromiografija</a:t>
            </a:r>
            <a:r>
              <a:rPr b="1" lang="sr-Latn-CS" sz="4400" spc="-1" strike="noStrike">
                <a:solidFill>
                  <a:srgbClr val="dbbd71"/>
                </a:solidFill>
                <a:latin typeface="Swiss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*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M-talas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arakter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: latencija, oblik, trajanje i amplitu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atencija je vreme od p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tka stimulisanja do prve defleksije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podatke o nervnim vlaknima, koja najbr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provode impul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Trajanje M-talasa je vreme od p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tka do zavr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tka defleksij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.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podatak o razlici u prov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u izm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 najb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r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h i najsporijih nervnih vlakana. Ta razlika kod zdravih osoba nije velik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tako da je M-talas dobro sinhronizovan i kratko traje. Ukoliko je razlika v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, nalaz up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je na neuropatske promene,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ili je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 toku regeneraci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mplituda M-talasa zavisi od broja depolarizovanih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h vlakan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od 7 do 30 mikro V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3733920" y="6153120"/>
                <a:ext cx="15238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m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Stimulaciona EM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Swiss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erenje brzine provodljivosti perifernih nera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atenca M-talasa, a nju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ne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tiri osnovne kompon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1. Vreme prov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a impulsa d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k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2. Vreme prov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a d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emijelinizovanih ogranaka akson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3. Vreme sinapt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og zadr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vanj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4. Vreme prov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a impulsa u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m vlakn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bi se odredila samo brzina provodljivosti aksona potrebno je isklj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ti poslednje tri komponente. To se post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na taj n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n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to se stimulisanje nerva vr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 na dve motorne t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e: proksimalnoj i distalnoj. Rastojanje izm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 dve motorne t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e meri se i iz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va u metarskim jedinicama (P). To rastojanje deli se sa razlikom u latenci M-talasa pri stimulisanju proksimalne i distalne motorne t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e nerva iz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og u sekund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Neurofiziološka ispitivan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EP:SSEP,AEP,V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Govore o očuvanosti vizuelnih-auditivnih put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reba ih raditi više puta, jer su samo tako rezultati valid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omatozni  bolesnici sa odstupanjima sva 3 EP imaju jako lošu prognoz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atološko: izmena fo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dsustvo odgo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bbd71"/>
                </a:solidFill>
                <a:latin typeface="Arial"/>
              </a:rPr>
              <a:t>Prednosti neurofizioloških ispitivanj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setljiva met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ogućnost neograničenog ponavlj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specifična met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tepen i nivo lez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ma ograničenja što se tiče uzrasta i pola boles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Somatosenzorni evocirani potencijal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omoćna metoda za dijagnostikovanje funkcije C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redstavljaju prolazan elektr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 odgovor CNS na 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 perifernih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staju u sistemu puteva dubokog senzibiliteta -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olumne dor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s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is, lemnis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s medijalisa, t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lamusa i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cortex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m n. medianusa i n. tibialis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mpulsima kratkog trajanja i supramaksimalne j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Swiss"/>
              </a:rPr>
              <a:t>Somatosenzorni evocirani potencijali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otencijali se registruju pom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standardnih disk-elektroda. Na skalp se stavljaju 2 do 40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elektro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oje s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ovezuju na zajed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u, tzv. referentnu elektrodu. 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Referentna elektro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se stavlja na od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e t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e na ekstremitetima - 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necefali</a:t>
            </a:r>
            <a:r>
              <a:rPr b="1" lang="sr-Latn-CS" sz="3200" spc="-1" strike="noStrike">
                <a:solidFill>
                  <a:srgbClr val="99cc00"/>
                </a:solidFill>
                <a:latin typeface="Swiss"/>
              </a:rPr>
              <a:t>č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ka elektro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, na jednu t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u na skalpu - 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cefali</a:t>
            </a:r>
            <a:r>
              <a:rPr b="1" lang="sr-Latn-CS" sz="3200" spc="-1" strike="noStrike">
                <a:solidFill>
                  <a:srgbClr val="99cc00"/>
                </a:solidFill>
                <a:latin typeface="Swiss"/>
              </a:rPr>
              <a:t>č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na elektro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 na 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u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ljku - 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aurikularna elektro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om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SSEP m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se iz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nati vreme prov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impulsa u pojedinim delovima C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Indikacije za SSE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ultipla skler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tanja posle C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raume C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umori C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aćenje operativnog to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egenerativna oboljenja C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ocena kliničke smr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Hronaksimetri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Hronaksija nerv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kod zdravog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je ista - 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izohroniza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d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nerva u prvoj fazi postoji sk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 hronaksije, a zatim njeno prod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(i preko 100 ms). Nervna vlakna su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ija od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, pa  elektr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 impulsi najpre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nerve, pa tek onda sam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Ako je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zgubio svoju inervaciju (povreda, poli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..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) hronaksij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biti mnogo d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jer se ustvari od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je hronaksija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 vlak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rednosti hronaksimetri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KRIVA INTENZITET - VREM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Horwig i Weiss: zavisnost intenziteta 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G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 potrebne za izazivanje minimalne okom vidljive kontrakcije i vremena proticanj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Kod 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oveka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 se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 vr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i  impulsima trajanja: 1000, 500, 100, 50, 10, 5, 1, 0,5, 0,1 i 0,05 ms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Koeficijent akomodabilitet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4" descr="tanja 1"/>
          <p:cNvPicPr/>
          <p:nvPr/>
        </p:nvPicPr>
        <p:blipFill>
          <a:blip r:embed="rId1"/>
          <a:stretch/>
        </p:blipFill>
        <p:spPr>
          <a:xfrm>
            <a:off x="4038480" y="1994040"/>
            <a:ext cx="497376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620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Dutch"/>
              </a:rPr>
              <a:t>Denervaciona kriva intenzitet - vrem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Dutch"/>
              </a:rPr>
              <a:t>Kriva intenzitet - vreme u fazi regeneracije nerv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553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12:06:54Z</dcterms:created>
  <dc:creator>Milan Milosevic</dc:creator>
  <dc:description/>
  <dc:language>en-US</dc:language>
  <cp:lastModifiedBy>Info</cp:lastModifiedBy>
  <dcterms:modified xsi:type="dcterms:W3CDTF">2014-07-11T15:21:29Z</dcterms:modified>
  <cp:revision>43</cp:revision>
  <dc:subject/>
  <dc:title>ELEKTRODIJAGNOSTIKA</dc:title>
</cp:coreProperties>
</file>